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8BF-AE0F-41D9-A3DD-9649D926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399-6675-4D6C-A731-1299BCB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F31-A5C6-49DB-9964-B04CFCF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0AA-51F2-456E-A7B2-2C9D94A3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38E-16FD-4A73-8948-8444B64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8E4-A837-45CD-9004-31DDEF7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506-21AA-4A05-AAD3-70A824D5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9A-3992-4DEE-8256-1487A94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13C-E244-4B91-9A6F-D7D92788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02E-D986-4416-AB55-7CEE170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164-DCB1-4330-B318-45A4EBCE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DA0-43D1-4485-998F-C471755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A1DD-8823-4951-A822-13EDA570A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- 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Organisation des agences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Agence de Vu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Prévisions pour l’année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e proj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9/09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nimation, gestion et organis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uivi des engagemen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entrepris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s haut de gamm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Opérations de 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ndard téléphoni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actylographie courrie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de l’en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pièces compt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ossiers de créd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 en sous-charge chronique sauf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révoir renforts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semai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35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136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5 H/moi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137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38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39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41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’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3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44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opé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45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46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app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47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48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. par courr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49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50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51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2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53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54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doss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7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61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1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73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74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75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6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77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78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79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80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81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8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83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86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8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9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90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191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2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3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94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95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96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8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99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00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01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02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204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06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07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08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9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210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211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12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3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1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15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6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7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18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19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20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22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24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25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26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27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228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229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30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3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32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3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234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5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236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3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38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40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42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43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4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45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6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7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4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49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50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51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5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7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3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54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55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56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58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4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60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261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62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63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64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6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66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67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68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69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70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71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72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73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74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76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78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80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81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28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283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4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85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86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87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88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89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90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91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9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9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296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297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29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00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01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02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03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304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05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06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0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08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09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310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12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314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15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1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17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19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20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21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22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23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24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25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26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27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328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30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32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3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34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35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36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37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338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39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40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41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42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43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44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45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46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48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5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51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52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3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54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55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57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58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359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60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361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6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363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64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66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59:44Z</dcterms:modified>
  <cp:revision>11</cp:revision>
  <dc:subject/>
  <dc:title>Présentation PowerPoint</dc:title>
</cp:coreProperties>
</file>